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C7F3FD-8BA8-4DD6-937A-624F163C8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907164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000" y="3044160"/>
            <a:ext cx="907164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03073B-7183-4AF3-8630-FEF802002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400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268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59EAEA-7DE5-40C9-AB2A-3E1392519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1200" y="132660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8040" y="132660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4000" y="304416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1200" y="304416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8040" y="304416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4186A5-70DA-42E8-8A5A-A2FA6A921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4000" y="1326600"/>
            <a:ext cx="907164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B2A6F7-B8CC-4D2C-BB7C-E4A91C71A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907164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EAE879-4DFD-4F91-8A49-001F2EA08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F76D1B-A15A-434A-B125-7C553E9B9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94B962-3056-4B87-AE5C-1D1996D11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2ADF6F-931F-4E34-93EC-458F3BDC8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400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C5CA5A-0F97-4A5B-B013-4B8FC0D99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268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B1FAA3-7FCC-491B-A4F3-C61B83FC4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4000" y="3044160"/>
            <a:ext cx="907164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3F8D09-2CF1-4CCB-9E20-592C678F6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3448080" y="5165280"/>
            <a:ext cx="3192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1A0E8-9EC8-4F01-8E4C-D92A28DAD0F4}" type="slidenum">
              <a: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dt" idx="3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504000" y="1326600"/>
            <a:ext cx="907164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3000"/>
              </a:lnSpc>
              <a:spcBef>
                <a:spcPts val="1137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862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575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28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12-01T13:27:04Z</dcterms:created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/>
</file>